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07AB-DC99-4587-94DE-1E3DEE81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9EFC-2E64-402E-A7D5-DCACA31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4C6F-7669-4BF3-9179-936C0CE1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8E4C-3222-47FB-B90E-802E0047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420-9A44-497D-8559-8318EBEB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DF1-00E4-45AD-ADFA-B8E10F68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D701-F666-4A4D-B530-F4DE9A9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4FC4-4183-4198-AB27-98FC3CF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AE68-43E5-4D54-8FB3-A9D5980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91B7-FB42-4BFE-9CA8-A01976DA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51C4-E4F1-4F4E-AAE0-338F1F8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EEA1-2717-4194-8ADC-0C764E77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94F-4322-4132-BF3B-36A9778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B6D4-E315-4CD3-B7B9-8C507EB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FFC-1E62-401B-8B62-31082EA0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269D-72D9-42C5-BBF5-656A364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920-49B0-47B9-BB9E-85F42174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3FCC-46FA-446D-8B3D-086A23F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4F6D-ED14-4B79-997E-DA86EAF4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F40D-02DC-4A82-85EA-B6137360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3074-D003-4903-A653-F9D7C8F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AD1A-5D17-4252-A44A-4CA2526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C4D5-9D00-42C6-AC20-BA830B3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933E-1A96-4D43-B571-E18F348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EF3D-0686-4C71-8940-79C93ACB217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A36-D366-409F-86F7-F57AE9C1487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447200"/>
            <a:ext cx="88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30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труден е животът, препълнен е със грях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змама и суетно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крайний тук успе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ие щастие ако дир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 близо е до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 е животът ве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 е в любим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с Бога във сърце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силни сме борци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м с нас е Той, не ще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злато, ни дворц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Живот Той дава веч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д Неговий покров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а цял да мине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олитва и любо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23:53Z</dcterms:modified>
  <cp:revision>57</cp:revision>
  <dc:subject/>
  <dc:title>Slide 1</dc:title>
</cp:coreProperties>
</file>